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  <p:sldId id="273" r:id="rId45"/>
    <p:sldId id="274" r:id="rId46"/>
    <p:sldId id="275" r:id="rId47"/>
    <p:sldId id="276" r:id="rId48"/>
    <p:sldId id="277" r:id="rId49"/>
    <p:sldId id="278" r:id="rId50"/>
    <p:sldId id="279" r:id="rId51"/>
    <p:sldId id="280" r:id="rId52"/>
    <p:sldId id="281" r:id="rId53"/>
    <p:sldId id="282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slide" Target="slides/slide18.xml"/><Relationship Id="rId46" Type="http://schemas.openxmlformats.org/officeDocument/2006/relationships/slide" Target="slides/slide19.xml"/><Relationship Id="rId47" Type="http://schemas.openxmlformats.org/officeDocument/2006/relationships/slide" Target="slides/slide20.xml"/><Relationship Id="rId48" Type="http://schemas.openxmlformats.org/officeDocument/2006/relationships/slide" Target="slides/slide21.xml"/><Relationship Id="rId49" Type="http://schemas.openxmlformats.org/officeDocument/2006/relationships/slide" Target="slides/slide22.xml"/><Relationship Id="rId50" Type="http://schemas.openxmlformats.org/officeDocument/2006/relationships/slide" Target="slides/slide23.xml"/><Relationship Id="rId51" Type="http://schemas.openxmlformats.org/officeDocument/2006/relationships/slide" Target="slides/slide24.xml"/><Relationship Id="rId52" Type="http://schemas.openxmlformats.org/officeDocument/2006/relationships/slide" Target="slides/slide25.xml"/><Relationship Id="rId53" Type="http://schemas.openxmlformats.org/officeDocument/2006/relationships/slide" Target="slides/slide26.xml"/><Relationship Id="rId54" Type="http://schemas.openxmlformats.org/officeDocument/2006/relationships/slide" Target="slides/slide27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dt" idx="7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 type="ftr" idx="7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 type="sldNum" idx="7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00DE-A0F3-48EC-B1E3-36A9E3A5C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B4C4-104E-440C-A1E9-C9586F35F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D88D-4A73-463C-A026-2F526105A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F0C4-A8A0-4E39-885E-9F5D28079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91ED-04CC-4B0E-A4DF-DBDBF5ADD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769A-33E5-40A5-8799-9A8DB3CBF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8749-238F-4E8E-8DA9-F90DDAF4C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101F-0E3C-4ADB-80D7-5B2EBF2FB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9D7F-C9FF-4CB8-8C2F-E744D5EBC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10E8-54EA-43A6-8598-38BD30E18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AE6EA-DB36-4CDB-91EA-DAE69BCC8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0A01E-76CA-49FA-B091-0A62C237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22A92E-6163-426A-A43E-595D0F35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82CF00-9EE4-4500-A692-03453287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CDAFCF-15B4-4AFC-863A-49B14720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09926A-8CBA-4AD1-8C65-4BB7DF73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AB1A68-155D-48EA-9D46-29B7FC0F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B20A65-995B-45AB-B3E4-34617390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64DC76-5AA4-4BAB-9756-3510D6FA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2A52E6-8FE8-44AC-BD48-BE2B016C1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B2F831-126C-4227-B993-FDBC46583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2E4E1B-DDC7-43D2-BB10-B787DAFD1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96A2C-D16C-4694-B303-157900167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D87682-ABD0-4878-BF56-10A553F8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5D9418-C487-4B24-B9D5-18124B92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42094E-D06F-4A51-9D7D-0E912448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C70893-1FD3-4384-ACFE-C3769B9D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F42281-E041-493D-8581-C3D17B7E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FDB16E-860E-4B93-A77D-AC766DC2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7816E0-AAF0-487E-BF32-08731519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18AE96-AFE4-4241-A0D8-56E943FA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226EAE-B02F-4657-91D0-B0B843F5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146E7D-D8AA-457E-A9A9-7BDD9CCBE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EFF7E-6F10-4C0B-9A7D-856E95964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DEA715-91B8-484F-A4F5-91D5557BB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4A70709-6FF9-4AEB-9D35-8769273E2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514254E-B3DC-4761-9492-672CEFFB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BCE8B07-71D1-44A6-A76D-608967FD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576AEB1-B882-465C-9AAE-A1250886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6255FE4-83FB-482D-ABEB-C38ED7DB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70FE61A-5F84-478D-9F35-2442248E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1AB39A8-D4C9-4114-9644-930186F4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428987D-073C-477A-A028-3427229B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1C4DA96-FEE7-4B46-9749-8DD2E4CE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E112-0AC4-4466-ADF7-5A9F3A8FA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2EEEEA7-A80E-4ABC-B15C-35B9AB38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976E53B-C4E1-4427-AC75-9BECE78BE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BADA445-3670-4A04-816E-FABF86E54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5C1F20-82A2-47C9-BA58-20D6D1600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AEDB18-CB65-4547-A690-0765D52F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E56628-6F4B-4005-BA30-4230DCA3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2B3844-FDB1-407C-B406-F8B465FF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0A7301-8A23-4106-8F9D-97185EEA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D864C3-472D-4D45-AABA-66F1EF21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CDDD0A-BBFF-48F4-9214-89BFE722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B090-9D1A-4FD4-9A9A-5A586CC2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5832AF-FC9C-4113-855A-C6FA3400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30B534-C6BA-4DF0-95A7-536519FB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BB4089-5C4A-438A-B74E-23416489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B210C5-E2A8-47B4-9ABD-0440D34AF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9D7F02-E67E-45F5-BF38-A61FB67BB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D9BD302-EC6F-41F4-9B80-C05006D4C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A00C4B7-672C-481C-AEE6-EBC8C24A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972C0A7-87CB-4C96-8F6B-293A6085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5ABA29E-F6E4-406E-8CA6-C997370D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E70DB38-446E-475F-873F-D30859D6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D3C5-2583-4F92-8705-D0B20B7B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5783AE1-D2F1-4A0A-ADC2-89AECB8A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A8AE5B4-E5BC-469E-AB80-FC72EEC5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23EF3FB-CA84-40CD-95E7-3890DF19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811EE5E-DBAE-43ED-9FDB-97DF50B4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48626DE-94AF-4FD4-8FC5-9B5E03F4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3407034-E9D8-429A-9F36-BFD098FC9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1B7CA19-BF73-4909-8FB1-1247F987F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87C1358-C83A-4AA5-A605-0A92A0844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28BB75C-410B-4061-BC47-C683FA56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A69C9E4-C857-4586-A3D0-DB602308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B2DC-C339-46D1-B86F-F7EE2E86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662929E-E876-46C9-96A2-244620FB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ED64A46-3226-49D9-ACDC-282D6850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3236277-5E84-46C9-9483-1A452C5E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8AB6C0E-FCF4-4DBA-A63A-4649CE41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7A9D74F-A4A0-4CC3-8781-17C18CCC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C230619-D046-49A9-A6B5-A8E2B8C5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6FC4EE2-876D-4D1B-A340-D94CFD77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4151B4B-3C3D-43E1-B760-042053A68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293C01A-0C51-4070-8116-EA5A66795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79EEF4F-15B7-4DFC-A8EE-0D28137CA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61A2-B088-4B23-ADEF-A9D5D05D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95E02FC-CECC-4078-AA90-59079125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6E58832-341E-465B-86C8-6031D64B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AD8BB05-93AE-4CB0-89D9-2AF6D56E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56318F7-5EEA-4EA1-9F79-B0163968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9F738BC-1B31-4502-B7AC-86E45841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F90C84F-3A4D-4C05-94E7-EFED1F5F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3B0F365-D83F-4734-B773-E67A5B29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7DF7CFF-0FAC-4DC0-A32E-C1E5ADE5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90DA4DF-5CD1-4588-A028-32B303D8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F0B63D0-379E-4242-8670-D67723FF2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6B05-47A9-473B-B32C-0065F45A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5B1E751-2708-4BF4-8056-35C6D22A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57C6E59-C4B0-4327-BE90-9D7EDEF8E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65A5640-0DF5-48F2-BFFD-13438FE6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7DE7CC6-E806-4F92-A498-20D00B0A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71B22E6-3EEF-4ABD-A989-775813CB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5C4D1BE-C413-4338-AF3C-65ED750A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48B8950-0C42-4A6D-BFA7-3595F3A2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D6F03DE-AE98-4B11-B4AD-AE8B3F74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5791575-0546-467E-B55C-14490E9F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E53AA9F-E2BA-4D2D-ADB9-FEA4481A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8B4B-891F-4291-A93A-3EE47448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B5C85B5-BE38-4910-910A-D5E5310D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6620721-69EA-4EDC-8CA0-0825778CE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66AC513-2DBC-40BB-9AB1-2262817FC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07AA029-4427-4B8E-B0D7-0F6AF50E5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B2D0419-3F7F-47A2-9B52-A4A6E062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80DAF9D-2C90-4B33-B719-964C44F5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F059AC8-4B0D-42B6-8CB8-05504635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D74AA13-7CD4-4905-8884-D154CA40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0F8CD36-A931-422C-AD58-9660CCE5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054AF37-736D-4D12-98AB-98F8B92A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B536C-865B-4B4A-B1CB-997CFFD6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5351-89C1-4E7B-901B-7E718876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2489049-4A66-4FEC-80C7-927D0DD9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D3253D9-B632-403F-B761-8CFEB628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F125BB3-CCF9-498A-8108-5A8A6CC7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4CA9716-4E77-4A2D-B818-82A01443F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D9F50A6-0B9E-475D-A240-CB3D3EA70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D402FA5-6585-4370-A810-449A14028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0A6004F-B265-4FAC-A365-95C26050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8FFC611-8EA0-4AB1-85B0-F8419679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47ACD12-C70D-400F-871C-64D703CB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5CEBDA1-2848-40A1-8A87-74A626DD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EC86-4A2E-40E0-8EDE-C63CB8B6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AF1872D-0A89-4AFD-AEBC-2B58A8E8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4C84264-BBCE-4198-8F6F-7219B3D0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A22800F-58DC-4292-8F2A-C080BC17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0ABF6AC-A408-4B0F-A12F-3FCE8157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724797F-5003-42F1-8469-20A2A0CB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4AD3E55-7DE4-427B-AA68-F90CA43EB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B415A94-5EAF-47FE-8B65-2F529827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9713AC4-33BB-4139-AFCB-369243309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5B25D1A-8883-406B-AF69-C158EAA6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2AD3E67-5DAA-4E5D-9345-724679B6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C373-0FE6-4FE5-A7F7-9F5C9413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B555ADA-2337-4B0E-9CFE-13BD3621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DA60EBA-B4E7-4C02-AA8B-5B3F66C1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F1D3493-B1C9-4250-A7E4-E70D9BB2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DEB368C-5BE6-470A-952D-61331BFD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FF62E6C-ABF7-4BD9-B089-37E3A95D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B3A6B94-770E-446B-92BE-233BF6EE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D6FF7E4-80E4-4145-9532-5F491CEF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10DF6EA-5EC1-42BC-B11F-623169D8C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AE86C26-949E-46CC-9EC7-F8350B73E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27CEDDD-2C72-4E6B-9CB7-529E69A96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4D5B-0410-4B7B-8304-36D71C924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F324B89-D1B4-4094-89F7-1CC3D81B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0873917-32EF-49FC-8B91-7AF4A4D0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BCFC841-BA2A-461C-9A27-C21D928F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966105F-4849-4D7F-8426-C67C6544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F4EDB78-8B5D-4574-B9D0-F9AC0752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CECA073-A4EF-4870-B3A9-DB597A75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2FFB2FA-D376-4377-A25F-83FEBC1D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6171C8F-57F4-4890-8D4B-563DC5F0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CEC6129-15DB-4243-AB54-ED391D9B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634AC09-A0C5-4629-8BF6-6B86E9BDA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9AB2-0929-4506-AFB4-EE428691B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39D004F-5E91-444E-8022-7FF06ECCF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7A39D8D-203C-44A5-BB2B-991486625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0C0D637-F8C2-441F-9D0B-921D9AED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30B5D7B-4B86-484C-8BB0-22B5ABAA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D9FAE67-4565-41F7-89E8-277500FB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DDFCE31-90B8-4EFD-99E4-BF5079D7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4727E25-FB6D-45A8-A36B-932C20F3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58AFBA4-F545-4CC7-A0F3-C19BC2AB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E864F04-9B5E-4443-8E19-406A8628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CA5F779-4FB0-47B8-9DCD-81720457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736961-A185-4EF5-9A3B-B91E46F3AC5D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42E3BE7-6BF6-471E-99D5-3ED0AE75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2176A87-6ACC-4067-B32D-2EB22B5EF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D3A9101-E60A-4B0F-AF5F-4C0E8A76B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6CDDBE7-7DC0-485F-B51F-A86D4814D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3C151DE-E26B-45C2-9C06-60D7839B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0F03F9A-7BCA-465E-AF6E-280A2432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EF82E19-6FEC-4926-A409-058AAE7C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D9CB68F-4625-44AD-826E-1124902F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CA83316-CA72-4C78-99D2-45B0978A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1EECE4E-6D83-4EAD-AE6C-6305385D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19E9B6-3232-4BA5-A5FC-5438B3A75E4B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0F9DDC3-BB62-4281-9EC2-2A98510A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3D5AC23-76FE-42E5-A68E-349EF77A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BCDC0C3-7DF9-4D32-929D-61FB4FFA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2BE8752-4063-4563-A5EE-CE2609814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7CE863C-3798-40F9-9B8F-9F0C9AAC3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FF3ECC0-E749-4FCA-AE08-ECF2D790F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668EF09-0628-4566-992A-F20AD66F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4C1B5B1-FB4C-4024-BA35-FB0A4FF7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51B1204-2558-4AC8-BB55-66F8FA51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DF66D13-1E6E-4338-BBA5-BB8B49C8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9AF1E9-6A39-426E-A7EC-3CCEC54B735A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75513CB-F028-4A3D-81C8-95964208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1C80891-8B79-4A24-8CF1-C56F81DB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BBE3A1E-3746-422F-87CC-E0A99D92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BBA5342-5BD8-4439-960E-E83B89D0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386EFB0-5DAD-4ADB-AB7B-3F27893D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A4236DA-D341-463C-8E6B-BE0322E02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6A322CF-3F0F-4DA8-B523-6740B9B3E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624D981-BD51-4FEC-9EF6-A0BBBFA77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22A70F8-2666-4949-9AC5-5C110B88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FEB7075-9774-4CF7-B40C-10D8A492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600A7D-B894-41F2-AB80-74EECB919BE9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79E38C1-AF87-4CE2-8269-D82E50CA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3A3569B-7224-41D9-A5EA-479119D2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1A83550-1D2C-406B-842A-A643697E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7D137E8-E978-42D8-81E5-1209FD22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51C5553-5B55-45D5-AAD4-FE2F68E8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E1E663C-E5FB-464B-ACB4-1ED7FA02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8DCC045-D767-44D6-A6A8-8A39F87D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FF8B284-5C4E-4235-869C-9597DF045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D2BBAAB-D49E-4006-96CA-6017ED78F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71629E-9FF6-48FD-8AE5-34867AF066B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189CE1-9E5A-41A2-A6C2-0C3E0AC785F6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482F44-55B2-49AC-88A1-CCE0CB1ECCF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7C1D4B-324E-4F09-83F4-6C97DB8EAAF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91EC28-C594-4FD5-A381-7D967C792764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7B6C93-646B-4245-9649-50D5935BF7D1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8248486-9792-4BEB-951E-389E868A6D98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919EE0-C2BB-4AA4-93D3-4F1B950E68E1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E93CEF-8C1B-4599-BDF7-34653416DBB6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62AB71-7A85-40BE-8954-59EFF22279A0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D60805-5647-40DD-B553-68677B218B8B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CC6ED5-FE4E-469E-BD59-C7768F1C15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10FF6-815D-40B2-A000-CAB42FDF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502F7A-8FDF-4296-9B58-F9ED426D155C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296A4B-B07D-49FA-98FB-492C7A77F40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A8D222-5BEB-4CA2-ABF3-C5D884ED955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8B2CBB-68B9-4C0A-B3E4-081C3B66B76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806EF2-A74E-42A5-9D87-4DDB27D60E5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5684DA-1DA8-4E4A-AC3C-5FEF13D88C4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0B6C76-F5D0-4B0D-A6F3-1EE6B7A46E4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2668EC-2F38-46A8-A90C-F0CE82E4893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A31342-05FD-41A4-9D33-4322ECE68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0BF832-71D1-4B89-9FA0-21814A30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88A812-9444-435A-B5EC-7D5E2351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5B6E5-BE54-4C7F-9FA4-029E5EC9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33A060-9C3C-4E5D-BD46-B0B59BD4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B6B7CC-B0A1-4572-BE8E-6F1C9059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B47FAD-9A85-42FB-A30D-89A176CE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4D8260-F9A1-49F5-9118-5E0EB84B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F6679C-F948-4239-AC0A-A4CD9A9B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C86AFD-D9E0-4F94-AF29-60A90B4E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D67E2F-2E73-4950-978C-84B78A23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356F88-A6AC-4A0F-8831-D740998A9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DD6074-BEC6-4A2D-9A27-49B8AEED8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D97AC4-2087-465B-89E1-D4370DF57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1FDF8-47A6-4EE0-87D9-8A1B5C4C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286B04-AED8-4D8E-BAD7-54873F7A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B53FC3-F401-495D-956D-CC9FE53D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BCE305-A3B0-4FF7-84A8-3645D2FE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19DABC-D5D7-433D-B465-1A35CF52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9D852B-3333-4977-BA66-F83DCFAB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C824B0-6FD2-44D6-A9AA-94B6A63C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D48F4D-F2A2-4424-929A-462894CF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A9D4F3-0488-4546-8B8D-15038061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C1082E-1480-4843-8094-589DC71A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E09ADE-C300-4627-A110-6EDC6920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8EEF6-0D49-4CA3-8636-0075DAD1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380F2E-DB16-4D9C-978C-0C8982FC9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64C986-E541-427B-9149-C14E3855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393061-DD22-429F-81E5-9A5436DA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FA56FA-F8CA-4BFF-A85C-6F0600F8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2D42E3-9B26-4BF9-82C5-FC9A13AC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D1431F-400C-4C65-88AD-B1E8A340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535BCA-63AE-4BFC-A88C-12EC6013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680511-E614-4665-A58B-A33A44EE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A0AFB9-41C7-4E1E-BFB4-61A7F8B6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824215-B7A2-40D8-BF1B-7BC9BF43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22E1D-CDCD-498D-B3E7-415DDBC9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CB8488-3684-4597-9926-5A784055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A907DE-CAF0-4B7E-9501-0C8D53813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6F1DCD-70DF-4AA2-A4C6-B70385FED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902569-CFF3-458A-8030-E27A798E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72C331-CD45-4B3B-AF7F-6B4C0F12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9637DC-EACC-4086-9073-280CEFA6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1D7B17-134A-4FB6-8552-8487ECDD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158F6B-850A-44A1-8B72-EC4A1ED9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AA9BA8-8D72-483C-929D-5BB41ACE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9A3419-4FAD-48D3-87F7-5E306626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CE042-3CD7-42E8-BEC1-B013B7C2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398825-77AB-4D5A-A1E3-E4D4D209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E99111-1151-4D7A-B89D-0CA7F9B6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CD82C5-2A50-4578-8905-7EF58316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58A8E5-566F-47EE-93A0-EEFFFD1F8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88DEDC-F23B-4C63-9229-F5F7DD99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2AE2C3-D54A-4077-98FA-D42E9F5E9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CFA7CB-C355-40AD-AA98-99888477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F5F76E-21FF-415C-A0A9-60CB21BE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16AC35-5D21-49FB-9640-625A0E58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316BC3-9024-475E-A99A-F56D9062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8AF72-A261-4352-B5C9-4133CFED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D21B54-13F7-4620-8F84-C5081D73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7FE198-3E31-49D5-9CE6-133E0CAE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0EBC89-60E2-42D3-854B-99B775DD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F7D483-F417-4F09-8C0C-BB33724A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56B997-6E44-4E50-936B-6AFC7C02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7666C3-A127-4FBF-B098-B3BDB14D2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B3D136-983F-426D-854A-04FABDE39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F50E86-7DD0-467A-968F-7AF64A13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28AD13-0D85-4AEF-AC90-9915E49E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745CD5-E1BC-4CD3-B0FF-F6F3E6A2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258F-847B-492E-A226-5B108D623112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7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8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D556-71B7-46EA-A4DE-27CFD39E532D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29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0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sldNum" idx="31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042B-7224-423C-98BC-6F60E41EF005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ftr" idx="32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3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sldNum" idx="34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B009-FE1F-4FB8-B54C-BEFB444D13A6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ftr" idx="35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6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sldNum" idx="37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D9BB-077F-42B5-AEC8-0C1EB5DE12F3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8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9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0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1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D35E-609E-4DA4-9AD2-8D051D19363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37A5-58A4-44A1-B061-BADD956AED2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45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46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47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162A-0F15-4023-8B42-38A132ADDB30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4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5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D492-66F0-40BA-BF92-90862A82DD2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5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5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5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5DEB-20DE-4EED-8517-769AF96AD96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dt" idx="5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ftr" idx="5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sldNum" idx="5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C3B7-E38E-4FDA-8B33-C099C083026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868E-3707-4760-B58F-6394E66F800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5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5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5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5EB6-6F0E-422D-9987-1AAC4604E49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6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ftr" idx="6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sldNum" idx="6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2BAF-CC50-482C-9FB2-F88B43B5CB4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 type="dt" idx="6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 type="ftr" idx="6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 type="sldNum" idx="6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9124-AD50-42DA-8C41-2FD06915494D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6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6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6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B5FC-8DF1-453A-82BD-96C7896A089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6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7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7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705C-FE25-459C-B9D8-909615D033F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1013" name="Rectangle 7"/>
          <p:cNvSpPr/>
          <p:nvPr/>
        </p:nvSpPr>
        <p:spPr>
          <a:xfrm>
            <a:off x="1905120" y="57150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9"/>
          <p:cNvSpPr/>
          <p:nvPr/>
        </p:nvSpPr>
        <p:spPr>
          <a:xfrm>
            <a:off x="18288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Edi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10"/>
          <p:cNvSpPr/>
          <p:nvPr/>
        </p:nvSpPr>
        <p:spPr>
          <a:xfrm>
            <a:off x="18288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ECTRONIC COMMER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11"/>
          <p:cNvSpPr/>
          <p:nvPr/>
        </p:nvSpPr>
        <p:spPr>
          <a:xfrm>
            <a:off x="1828800" y="43434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rom Vision to Fulfill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0E92-EBD0-47E4-B395-8F31CE4AA387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73"/>
          </p:nvPr>
        </p:nvSpPr>
        <p:spPr>
          <a:xfrm>
            <a:off x="3124080" y="62449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1905120" y="57150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828800" y="57913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ias M. Awa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18288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Edi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8288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ECTRONIC COMMER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1828800" y="43434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rom Vision to Fulfill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E1DB-1543-4AA7-A0A8-7E82500470C6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10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7C97-B287-473E-99BF-A52FE90B5021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2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3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543B-CF9B-4C53-AE71-C777E9E7CE13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5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6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D18E-F645-4E17-A580-60A7A07B19A5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7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8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19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439D-70B9-4336-8A1E-F0B072168CCE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20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1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22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6E4A-85F5-4942-90CF-13E7245001A9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ftr" idx="23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4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25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8B6E-9B66-4409-9BD4-1EDDA4D98EDB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ftr" idx="26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0E2E-1EA6-47FD-8EA6-CCD6E7405245}" type="slidenum">
              <a:rPr b="0" i="1" lang="en-US" sz="1400" spc="-1" strike="noStrike">
                <a:solidFill>
                  <a:srgbClr val="99663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12"/>
          <p:cNvSpPr/>
          <p:nvPr/>
        </p:nvSpPr>
        <p:spPr>
          <a:xfrm>
            <a:off x="3124080" y="6245280"/>
            <a:ext cx="3353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7"/>
          <p:cNvSpPr/>
          <p:nvPr/>
        </p:nvSpPr>
        <p:spPr>
          <a:xfrm>
            <a:off x="1143000" y="25146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Garamond"/>
              </a:rPr>
              <a:t>Chapter Four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Garamond"/>
              </a:rPr>
              <a:t>Concepts in e-commerce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ypes of e-commerce..contd…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B2C Commer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ommerce between companies and consumer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nvolves customers gathering information; purchasing physical goods or information goods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online retailing companies such as Amazon.com, Drugstore.com, Beyond.com, Flipkart.com, Lenskart.com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reduces transactions cost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ncreasing consumer access to information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reduces market entry barrier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099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86EF-D456-4A74-A48F-031312A280F2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464653"/>
                </a:solidFill>
                <a:latin typeface="Bookman Old Style"/>
              </a:rPr>
              <a:t>..Contd…</a:t>
            </a: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457200" y="5331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B2G e-commer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ommerce between companies and the public sector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use of the Internet for public procurement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licensing procedur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C2C e-commer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31000" indent="-2646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commerce between private individuals or consumers</a:t>
            </a:r>
            <a:endParaRPr b="0" lang="en-US" sz="15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online auctions</a:t>
            </a:r>
            <a:endParaRPr b="0" lang="en-US" sz="15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auctions facilitated at a portal, such as eBay, which allows online real-time bidding on items being sold in the Web; </a:t>
            </a:r>
            <a:endParaRPr b="0" lang="en-US" sz="15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peer-to-peer systems, such as the Napster model (a protocol for sharing files between users used by chat forums similar to IRC) and other file exchange and later money exchange models; and </a:t>
            </a:r>
            <a:endParaRPr b="0" lang="en-US" sz="15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classified ads at portal sites such as Excite Classifieds and eWanted (an inter- active, online marketplace where buyers and sellers can negotiate and which features “Buyer Leads &amp; Want Ads”).</a:t>
            </a:r>
            <a:endParaRPr b="0" lang="en-US" sz="15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Consumer-to-business (C2B) transactions involve reverse auctions, which empower the consumer to drive transactions. A concrete example of this when competing airlines gives a traveler best travel and ticket offers in response to the traveler’s post that she wants to fly from New York to San Francisco. </a:t>
            </a:r>
            <a:endParaRPr b="0" lang="en-US" sz="15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There is little information on the relative size of global C2C e-commerce. However, C2C figures of popular C2C sites such as eBay and Napster indicate that this market is quite large. These sites produce millions of dollars in sales every day</a:t>
            </a:r>
            <a:endParaRPr b="0" lang="en-US" sz="15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103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6B0A-972E-44DE-AF4B-5DD8981F9769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-Commer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6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5270-C2B1-4286-A0AE-3B856E6EEA3F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buying and selling of goods and services through wireless technology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handheld devices such as cellular telephones and personal digital assistants (PDAs) are used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m-commerce will become the choice for digital commerce transactions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bill payment and account reviews can all be conducted from the handheld devices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consumers are given the ability to place and pay for orders on-the-fly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delivery of entertainment, financial news, sports figures and traffic updates to a single mobile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different server than that accessed by the regular online users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allow users to book and cancel rail, flight, movie tickets through their mobile devices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M-Commerce..contd.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ritical considerations for this strategy is the software solution that the organization us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ll in one’ device strategy vs individual device based technolog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anks can use cost effective virtual distribution channel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Financial inclusion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Greater reach across the population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venience without compromising securit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enefits are in terms of usage, reach, cost of installation, efforts and money for maintenance, upgradeability and sustainabilit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1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1465-2C91-4DBB-BBBB-749D650262C9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M commerce..contd.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ress the needs of all the players (including regulatory requirement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lution is adopted that can be deployed fast, and can be scalab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re of disparate systems, customized solutions and maintenance c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platform that easily integrates new services and allows banks to be flexibl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owing the bank to reap benefits from the full potential of the mobile commer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 commerce strategy requires a clear vision and objectives and not ‘one size fits all’ approa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5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574B-52A4-4D67-8A85-20822F3D4985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Factors affecting e-commerce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jor forces fuelling e-commer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economic forces, 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marketing and customer interaction forces, and 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Technology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communications costs, 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low-cost technological infrastructure, 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speedier and more economic electronic transactions with suppliers, 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lower global information sharing and advertising costs, and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cheaper customer service cost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networking of corporations, suppliers, customers/clients, and independent contractors into one community 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Networking of the various departments within a corporation, and of business operations and processes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9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E569-D451-471D-ABC7-92735307A1CE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Bookman Old Style"/>
              </a:rPr>
              <a:t>Factors affecting e-commerce..contd..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ritical business information to be stored in a digital for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etrieved instantly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ransmitted electronicall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necting businesses (small, medium or large) to trading partner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ourcing out supplies, buying and selling goods and services online in real tim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enter for management of content and the processing of business transactio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upport services such as financial clearance and information servic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egional, vertical and industry-specific interoperable B2B e-markets across the glob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3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0E5B-8B00-4428-BD15-374D58A58232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Bookman Old Style"/>
              </a:rPr>
              <a:t>Factors affecting e-commerce..contd..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ovide their target consumers with more detailed product and service information using e-commer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ogistical and technological infrastructure to other retail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pertise in credit analys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racking ord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oduct comparison system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gitizing content, compression and the promotion of open systems technology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vergence of telephone services, television broadcast, cable television, and Internet acces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7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1A4C-EA55-43FF-9D24-B50B944B7C76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E-commerce components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3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corporate Web site with e-commerce capabilit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corporate intranet so that orders are processed in an efficient mann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T-literate employees to manage the information flows and maintain the e-commerce syste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nking institutions that offer transaction clearing servi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tional and international logistic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st-efficient transport of small and big packag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ritical mass of the population with access to the Internet and disposable incom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rms/Businesses with order fulfilling capabil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1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20D3-9F54-43E5-9371-5CAECC4341A1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E-commerce components..contd.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3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A legal framework governing e-commerce transaction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Legal institutions that would enforce the legal framework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A robust and reliable Internet infrastructure;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A pricing structure that doesn’t penalize consumers for spending time on and buying goods over the Internet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global collection of networks connected to share information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common set of protocol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5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E279-A750-4632-9343-E8BBE03DAE4E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Learning objectives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at is e-commerce and different models in e-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ole of e-commerce in developing econom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ow e-commerce is different than e-busines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ternet security requirement for e-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actors that would influence adoption of e-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at is m-commerce and how is it related to e-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lectronic payment syste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-bank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egal and policy issues in e-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-commerce and online publish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actors that impact adoption of e-commerce among Small and Medium Enterprises (SME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gulatory monitoring required for e-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9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5204-4884-420A-8CD2-46C4DF048FFE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-commerce component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38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DB82-7956-427C-8A01-208207F5CF23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Important component </a:t>
            </a: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of e-commerce based firm is the websi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website should have technology that will make it easier for its customers to navigat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site should offer every single feature necessary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fully-functional and sustainable ecommerce web sit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stable server for hosting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provide customer specific servic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technology partners who constantly upgrade the features as well as technology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help business partners such as logistics partners and suppliers to share and exchange business data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Alternatively SaaS can be used for running these services (reduce cos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53"/>
                </a:solidFill>
                <a:latin typeface="Bookman Old Style"/>
              </a:rPr>
              <a:t>Business transformation through e-commerce</a:t>
            </a:r>
            <a:br>
              <a:rPr sz="2400"/>
            </a:b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457200" y="9144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inking stakeholders through e-commerc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53"/>
                </a:solidFill>
                <a:latin typeface="Gill Sans MT"/>
              </a:rPr>
              <a:t>Supply chain management integration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53"/>
                </a:solidFill>
                <a:latin typeface="Gill Sans MT"/>
              </a:rPr>
              <a:t>The product flow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53"/>
                </a:solidFill>
                <a:latin typeface="Gill Sans MT"/>
              </a:rPr>
              <a:t>The information flow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53"/>
                </a:solidFill>
                <a:latin typeface="Gill Sans MT"/>
              </a:rPr>
              <a:t>The finances flow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53"/>
                </a:solidFill>
                <a:latin typeface="Gill Sans MT"/>
              </a:rPr>
              <a:t>Shared data in diverse database systems, data warehouse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53"/>
                </a:solidFill>
                <a:latin typeface="Gill Sans MT"/>
              </a:rPr>
              <a:t>Sharing data “upstream” (with a company’s suppliers) and “downstream” (with a company’s clients)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53"/>
                </a:solidFill>
                <a:latin typeface="Gill Sans MT"/>
              </a:rPr>
              <a:t>shared digital business infrastructure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53"/>
                </a:solidFill>
                <a:latin typeface="Gill Sans MT"/>
              </a:rPr>
              <a:t>including integrated value chains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53"/>
                </a:solidFill>
                <a:latin typeface="Gill Sans MT"/>
              </a:rPr>
              <a:t>e-business management model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53"/>
                </a:solidFill>
                <a:latin typeface="Gill Sans MT"/>
              </a:rPr>
              <a:t>business policies consistent with e-commerce laws, teleworking/virtual work, distance learning, incentive schemes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143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9093-7E0E-4654-96B8-B71A95CBBE56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53"/>
                </a:solidFill>
                <a:latin typeface="Bookman Old Style"/>
              </a:rPr>
              <a:t>E-COMMERCE APPLICATIONS: ISSUES AND PROSPECTS </a:t>
            </a:r>
            <a:br>
              <a:rPr sz="2000"/>
            </a:b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457200" y="10663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-banking, e-tailing and online publishing/online retail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elephone banking, credit cards, ATM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-commerce in developing countr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ash-on-delivery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Bank payment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electronic payment system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urity issues in e-payment 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ctors the growth of e-banking in developing countr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ccess to the Internet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nclination for banking over the internet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ccess to high-quality product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urity over internet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7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9E08-2CE4-44F5-B0AC-682675769CD4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53"/>
                </a:solidFill>
                <a:latin typeface="Bookman Old Style"/>
              </a:rPr>
              <a:t>Future trend in e-banking in third world countries</a:t>
            </a:r>
            <a:br>
              <a:rPr sz="2400"/>
            </a:b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457200" y="9144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Gill Sans MT"/>
              </a:rPr>
              <a:t>Lead us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Gill Sans MT"/>
              </a:rPr>
              <a:t>Follow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Gill Sans MT"/>
              </a:rPr>
              <a:t>Reject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Gill Sans MT"/>
              </a:rPr>
              <a:t>Interest in conducting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lex activities over the Intern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-tailing (or electronic retailing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selling of retail goods on the Internet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1997 is considered the initial year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Lower customer acquisition costs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line publish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newsletters, online magazines and databases, brochures and other promotional materials, books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Internet as a medium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151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C22B-F3EB-438D-A530-556E59726A88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Future trend in e-banking in third world countries..contd.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Online publish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dvantag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w-cost universal acces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dependence of time and pla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ase of distribu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ffective marketing outreach mediu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ssu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at kind of business model would result in the most revenu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icing, mark u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airness of charges to advertis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adequate copyright protec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ncryption for paid subscrib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nsolicited commercial e-mail or “spam mail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5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359E-F705-4640-9389-BCE09590837E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e-commerce AND entrepreneurs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1.   It facilitates the access of artisans and SMEs to world market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2.   It facilitates the promotion and development of tourism of developing countries in a global scal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3.   It facilitates the marketing of agricultural and tropical products in the global market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4.   It provides avenues for firms in poorer countries to enter into B2B and B2G supply chain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5.   It assists service-providing enterprises in developing countries by allowing them to operate more efficiently and directly provide specific services to customers globall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9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B2C3-BE3B-4355-9FA1-E85F9055A7AC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-commerce AND entrepreneurs..cont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457200" y="10663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-commerce evolution for entrepreneu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use of the Internet for communication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use of the Internet for research and information search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information about a firm’s goods or services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Internet for e-commerce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maintaining business relationships with business partners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ssues with adoption of e-commerce by entrepreneu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unfavorable economic environment,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high cost of ICT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security concerns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lack of ICT awareness and knowledg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Lack of ICT-capable employees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163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5A3D-54D2-4CA8-B2B0-1AEF8C3798CF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ole of government and e-commerce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66" name=""/>
          <p:cNvSpPr txBox="1"/>
          <p:nvPr/>
        </p:nvSpPr>
        <p:spPr>
          <a:xfrm>
            <a:off x="457200" y="9907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reating a favorable polic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ecoming a leading-edge user of e-commer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ts applications in its opera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provider to citizens of e-government services,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 encourage its mass u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ridging the digital divid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egal recognition of e-commerce transac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sumer protection from frau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otection of consumers’ right to privac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egal protection against crack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otection of intellectual propert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7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031B-A3BB-4209-8D61-BB4617746F67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Infrastructure in e-commerce development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1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457200" y="10663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High Internet access costs, including connection service fees, communication fees, and hosting charges for websites with sufficient bandwidth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Limited availability of credit cards and a nationwide credit card system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Underdeveloped transportation infrastructure resulting in slow and uncertain delivery of goods and services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Network security problems and insufficient security safeguards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Lack of skilled human resources and key technologies (i.e., inadequate professional IT workforce)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Content restriction on national security and other public policy grounds, which greatly affect business in the field of  information services, such as the media and entertainment sectors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Cross-border issues, such as the recognition of transactions under laws of other ASEAN member-countries, certification services, improvement of delivery methods and customs facilitation; and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the relatively low cost of labor, which implies that a shift to a comparatively capital intensive solution (including investments on  the improvement of the physical and network infrastructure) is not apparent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ONT’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4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B199-2535-46E5-8E2F-DA3A382CAA5B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owerful tool in the economic growth of developing countr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-commerce promises better business for SME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ustainable economic developmen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quires strong political will and good governan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quires responsible and supportive private secto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What is e-commer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8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72C0-6DF5-47D8-A7EA-2B4DC4DB4284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457200" y="12189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188280" indent="-1882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nline business activities for products and servic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188280" indent="-1882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-commerce is usually associated with buying and selling over the Interne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188280" indent="-1882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New Definition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create, transform, and redefine relationships for value creation between or among organizations, and between organizations and individua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188280" indent="-1882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188280" indent="-1882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188280" indent="-1882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What is e-commer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2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9B7F-87C5-4A2C-BFEE-F7D673E85C6F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E-commerce is a short version of the term Electronic 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transactions related to online buying and selling of products or servic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done using electronic systems such as the Internet and other computer network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penetration and spread of the internet has fuelled e-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Examples os e-commerce are electronic funds transfer, supply chain management, Internet marketing, online transaction processing, electronic data interchange (EDI), inventory management systems, and automated data collection system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definition of e-commerce in modern the modern times implies that it typically uses the World Wide Web at least at any point in the transaction's lifecyc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Online retailers are sometimes known as e-tail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online retail is sometimes known as e-tai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-commerce and e-busines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E-commerce: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formation and communications technology (ICT) is used in inter-business or inter-organizational transac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-business:  ICT is used to enhance one’s busine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ree primary processes are enhanced in e-busine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1.</a:t>
            </a: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Production processes, which include procurement, ordering and replenishment of stocks; processing of payments; electronic links with suppliers; and production control processes, among others; 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2.   Customer-focused processes, which include promotional and marketing efforts, selling over the Internet, processing of customers’ purchase orders and payments, and customer support, among others; and 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3.   Internal management processes, which include employee services, training, internal information-sharing, video-conferencing, and recruiting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087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456A-30D9-4ABE-AAE4-A53D2FBE4023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ternet econom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cludes e-commerce and e-busine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ertains to all economic activities using electronic network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t is made up of three major segmen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hysical (ICT) infrastructure,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business infrastructure, and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ommerc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ntermediari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1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E1AE-012C-474F-9688-346E3722426B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ypes of e-commer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4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0321-1691-4B2D-AF08-155A2F4CEEAB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2B: </a:t>
            </a: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E-commerce that is conducted between businesses is referred to as Business-to-busines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(1) open to the entire public or (2) limited to a group of businesses who have been part of the specific group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Transaction cost reduced through reduction in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arch cos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sts of processing transactions (e.g. invoices, purchase orders and payment scheme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st in trading processe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eliminating intermediaries and distributor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ncrease in price transparency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reates supply-side cost-based economies of scal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2T00:21:47Z</dcterms:created>
  <dc:creator>RGPlatt</dc:creator>
  <dc:description/>
  <dc:language>en-US</dc:language>
  <cp:lastModifiedBy>Sanjay</cp:lastModifiedBy>
  <dcterms:modified xsi:type="dcterms:W3CDTF">2013-03-04T19:04:21Z</dcterms:modified>
  <cp:revision>320</cp:revision>
  <dc:subject>Awad 3rd ed</dc:subject>
  <dc:title>The Dawn of a Maturing Indust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